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F2D8-C6B2-4829-B9F8-3AF5C3597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2EB2-3916-4780-97CB-1B85D10A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E597-9137-49A0-8F9E-9CA677BC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A6FA-046D-49CD-B827-F5FC9F62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DE8C-4CBF-4907-BB84-93028158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4D0B-BC7F-485B-8EE8-FD06DE32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CA8E-E3EE-4EF2-A20F-1F93E91C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CA1C-B69D-47A6-8630-8344F381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E7EB-30AF-41E4-A9FF-5BB310B3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7998-B307-4575-8083-0F43BA23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1320-B0DF-44C1-8F22-0177FAE0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C3C9-44F3-4A9E-AAF0-9C9D7442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7AEF-F649-4D50-9111-CB43C4DBF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36666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80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ك يا ر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عزة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القدرة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الجلال والبهاء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المج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والجبرو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ك الملك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لك السيادة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قد ارتفعت       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ملكا على                    الجمي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5:34:51Z</dcterms:created>
  <dc:creator>USER</dc:creator>
  <dc:description/>
  <dc:language>en-US</dc:language>
  <cp:lastModifiedBy>USER</cp:lastModifiedBy>
  <dcterms:modified xsi:type="dcterms:W3CDTF">2003-01-31T04:27:31Z</dcterms:modified>
  <cp:revision>7</cp:revision>
  <dc:subject/>
  <dc:title>PowerPoint Presentation</dc:title>
</cp:coreProperties>
</file>